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FF5-35C2-4433-9B47-7D88282F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49C-064A-4E08-AF49-C88CE81C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A7C-58D7-4678-86A1-512D507F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28C-A708-429A-A843-5D41E9C0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D2AA-E7C1-4E63-B915-1A80E7F5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3BFA-C3EC-49BD-839D-A1D9D780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6F6C-7334-46EC-B720-C88FAA35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C18E-592A-46F7-BB40-37BF4E3A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C615-CE45-4E93-BEBB-229C2431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CE52-B6BB-41CF-B9CC-09AAC08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B778-3455-479A-979F-324A45E3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8D0-44EF-4890-9E5F-9C6EC2A3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CDF8-470B-4D78-B897-654F2D41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F35C-7265-43E2-9D54-974BB0D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3060-95A8-4D04-B5F2-975460F5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08EA-F47A-4ACD-945A-930DA813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01DF-5FAA-4927-899D-7082ED78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2BA-F4F6-4A2A-BE5E-D7099502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8AA-2C09-42F6-9BF5-52266D4A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9CB-01CC-4FAD-876D-6B4F145F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17E-7177-4547-A281-41F056D6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1D2-DDBC-4522-B2AC-2988D9FB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14B-325C-4CB3-9737-E345B2A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E9F-BE9A-4B79-B378-070C307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1E60-8371-40FC-807C-65778E521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997D-1513-4B7B-88F7-9EA42C838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360" y="260280"/>
            <a:ext cx="1008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ian</a:t>
            </a:r>
            <a:br>
              <a:rPr sz="48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42560" y="2268000"/>
            <a:ext cx="678204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5480" y="76500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r arian a ddefnyddir ym Mhrydain heddiw y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076640"/>
            <a:ext cx="845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eth yw’r nifer lleiaf o ddarnau arian y gellir e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efnyddio i gr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(a) 83 c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(b) £ 1.34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(c) £ 5.27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9720" y="5397480"/>
            <a:ext cx="75524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eth yw’r swm lleiaf y gellir ei greu gyda mwy na phu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arn o aria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19280" y="1197000"/>
            <a:ext cx="5371560" cy="2857320"/>
            <a:chOff x="1619280" y="1197000"/>
            <a:chExt cx="5371560" cy="2857320"/>
          </a:xfrm>
        </p:grpSpPr>
        <p:grpSp>
          <p:nvGrpSpPr>
            <p:cNvPr id="104" name=""/>
            <p:cNvGrpSpPr/>
            <p:nvPr/>
          </p:nvGrpSpPr>
          <p:grpSpPr>
            <a:xfrm>
              <a:off x="1962000" y="1197000"/>
              <a:ext cx="4457160" cy="1185480"/>
              <a:chOff x="1962000" y="1197000"/>
              <a:chExt cx="4457160" cy="11854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62000" y="1539720"/>
                <a:ext cx="685440" cy="685800"/>
              </a:xfrm>
              <a:prstGeom prst="ellipse">
                <a:avLst/>
              </a:prstGeom>
              <a:solidFill>
                <a:srgbClr val="99330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1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76400" y="1311120"/>
                <a:ext cx="1036800" cy="1071000"/>
              </a:xfrm>
              <a:prstGeom prst="ellipse">
                <a:avLst/>
              </a:prstGeom>
              <a:solidFill>
                <a:srgbClr val="99330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2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8000" y="1539720"/>
                <a:ext cx="685440" cy="685800"/>
              </a:xfrm>
              <a:prstGeom prst="ellipse">
                <a:avLst/>
              </a:prstGeom>
              <a:solidFill>
                <a:srgbClr val="c0c0c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5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76520" y="1197000"/>
                <a:ext cx="1142640" cy="1185480"/>
              </a:xfrm>
              <a:prstGeom prst="ellipse">
                <a:avLst/>
              </a:prstGeom>
              <a:solidFill>
                <a:srgbClr val="c0c0c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10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619280" y="2682720"/>
              <a:ext cx="5371560" cy="1371600"/>
              <a:chOff x="1619280" y="2682720"/>
              <a:chExt cx="53715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4362120" y="2910960"/>
                <a:ext cx="1036800" cy="1071360"/>
              </a:xfrm>
              <a:prstGeom prst="ellipse">
                <a:avLst/>
              </a:prstGeom>
              <a:solidFill>
                <a:srgbClr val="ffcc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£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5619600" y="2682720"/>
                <a:ext cx="1371240" cy="1371600"/>
                <a:chOff x="5619600" y="2682720"/>
                <a:chExt cx="1371240" cy="13716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619600" y="2682720"/>
                  <a:ext cx="1371240" cy="1371600"/>
                </a:xfrm>
                <a:prstGeom prst="ellipse">
                  <a:avLst/>
                </a:prstGeom>
                <a:solidFill>
                  <a:srgbClr val="ffcc00">
                    <a:alpha val="4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815440" y="2878560"/>
                  <a:ext cx="979200" cy="979560"/>
                </a:xfrm>
                <a:prstGeom prst="ellipse">
                  <a:avLst/>
                </a:prstGeom>
                <a:solidFill>
                  <a:srgbClr val="c0c0c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y-GB" sz="2200" spc="-1" strike="noStrike">
                      <a:solidFill>
                        <a:srgbClr val="000000"/>
                      </a:solidFill>
                      <a:latin typeface="Comic Sans MS"/>
                      <a:ea typeface="SimSun"/>
                    </a:rPr>
                    <a:t>£2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2760120" y="2682720"/>
                <a:ext cx="1257120" cy="1257120"/>
              </a:xfrm>
              <a:prstGeom prst="octagon">
                <a:avLst>
                  <a:gd name="adj" fmla="val 29287"/>
                </a:avLst>
              </a:prstGeom>
              <a:solidFill>
                <a:srgbClr val="c0c0c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50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19280" y="3025440"/>
                <a:ext cx="914040" cy="914400"/>
              </a:xfrm>
              <a:prstGeom prst="octagon">
                <a:avLst>
                  <a:gd name="adj" fmla="val 29287"/>
                </a:avLst>
              </a:prstGeom>
              <a:solidFill>
                <a:srgbClr val="c0c0c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20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33:26Z</dcterms:created>
  <dc:creator>Carwyn</dc:creator>
  <dc:description/>
  <dc:language>en-US</dc:language>
  <cp:lastModifiedBy>Carwyn</cp:lastModifiedBy>
  <dcterms:modified xsi:type="dcterms:W3CDTF">2008-12-07T19:39:03Z</dcterms:modified>
  <cp:revision>1</cp:revision>
  <dc:subject/>
  <dc:title>Arian </dc:title>
</cp:coreProperties>
</file>